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00B-109A-4670-8571-32B9C031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078-DC1E-423E-983F-C40E045F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833-3FF2-495E-ACCB-F0709600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C0B-988C-4BD3-BBAA-41C5C0AB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E32-AF1A-4234-B2C5-1F735779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466-E125-44E0-BBF2-1C2C317A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8E8-C8F5-4C90-AA50-6B972A13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8F3-5E86-4143-81ED-02FE28AA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9FD-1ACF-48EB-9465-DDB94BAD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6B4-DF3D-482C-B10C-A604588A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68D-A570-4086-A92B-019C9BD1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05B-372B-4DC1-B63A-1468D682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5E98-4385-421B-9C51-D3BFA45C9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In Your Li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79520" y="2666880"/>
            <a:ext cx="4583160" cy="3364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56000" y="587700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tt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a W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 R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81080"/>
            <a:ext cx="8534160" cy="825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go to work you are paid wages. Most people receive a wage rise each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048120"/>
            <a:ext cx="79246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new wage for these people who have had a ri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657600"/>
            <a:ext cx="4647960" cy="1557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Janet is paid £245.78 a week as a sales rep. Her pay is increased by £67.89 a week. What is her new wag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d05584_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1825920" cy="2438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320" y="533412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wag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5334120"/>
            <a:ext cx="129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245.7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5334120"/>
            <a:ext cx="1067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67.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6019920"/>
            <a:ext cx="160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£313.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04920"/>
            <a:ext cx="4343400" cy="1557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John is paid £1365.78  a month as a car mechanic. He gets a pay rise of £156.82. How much is his new wag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j0185766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733920" cy="3098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20040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wag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200400"/>
            <a:ext cx="1371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1365.7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3200400"/>
            <a:ext cx="533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200400"/>
            <a:ext cx="129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156.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88620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£1522.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oes In The Box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52480"/>
            <a:ext cx="54100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new wage after the pay r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243828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438280"/>
            <a:ext cx="1371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 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243828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W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200400"/>
            <a:ext cx="46483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        £234.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£45.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038480"/>
            <a:ext cx="47242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        £786.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£87.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876920"/>
            <a:ext cx="48006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        £1345.78               £234.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715000"/>
            <a:ext cx="48006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        £2345.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£256.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3200400"/>
            <a:ext cx="1828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962520"/>
            <a:ext cx="1828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4800600"/>
            <a:ext cx="1828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638680"/>
            <a:ext cx="18288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200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280.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874.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1580.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2602.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960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dding On V.A.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1447920"/>
            <a:ext cx="7696080" cy="825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 stands for Value Added Tax and is a tax that is put on many goods by the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680" y="2438280"/>
            <a:ext cx="8001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nd guess the amount of VAT paid on the following item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200400"/>
            <a:ext cx="18288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 &amp;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3124080"/>
            <a:ext cx="304776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T added on to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9480" y="3886200"/>
            <a:ext cx="2286000" cy="2517120"/>
            <a:chOff x="609480" y="3886200"/>
            <a:chExt cx="2286000" cy="2517120"/>
          </a:xfrm>
        </p:grpSpPr>
        <p:sp>
          <p:nvSpPr>
            <p:cNvPr id="84" name=""/>
            <p:cNvSpPr/>
            <p:nvPr/>
          </p:nvSpPr>
          <p:spPr>
            <a:xfrm>
              <a:off x="685440" y="3886200"/>
              <a:ext cx="22100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levision £3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440" y="4572000"/>
              <a:ext cx="16765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 £75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9480" y="5257800"/>
              <a:ext cx="198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cket £56.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480" y="5943600"/>
              <a:ext cx="22096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D Player £1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724280" y="3809880"/>
            <a:ext cx="4191120" cy="2593440"/>
            <a:chOff x="4724280" y="3809880"/>
            <a:chExt cx="4191120" cy="2593440"/>
          </a:xfrm>
        </p:grpSpPr>
        <p:sp>
          <p:nvSpPr>
            <p:cNvPr id="89" name=""/>
            <p:cNvSpPr/>
            <p:nvPr/>
          </p:nvSpPr>
          <p:spPr>
            <a:xfrm>
              <a:off x="4724280" y="3886200"/>
              <a:ext cx="76212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6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86400" y="5029200"/>
              <a:ext cx="106668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13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0800" y="5715000"/>
              <a:ext cx="106668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9.9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5720" y="3886200"/>
              <a:ext cx="76176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38680" y="4191120"/>
              <a:ext cx="99072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4.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6920" y="5943600"/>
              <a:ext cx="9144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8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86600" y="4572000"/>
              <a:ext cx="83808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48720" y="5410080"/>
              <a:ext cx="9144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2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4680" y="3809880"/>
              <a:ext cx="99072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£14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743200" y="41148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4800600"/>
            <a:ext cx="327672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5486400"/>
            <a:ext cx="380988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819520" y="4343400"/>
            <a:ext cx="396216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30492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cost of these items once VAT has been ad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143000"/>
            <a:ext cx="63244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A football strip costs £20 plus £3.50  V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762120"/>
            <a:ext cx="1733400" cy="2450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228600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2286000"/>
            <a:ext cx="761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228600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286000"/>
            <a:ext cx="1066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3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97180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£23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962520"/>
            <a:ext cx="59436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A guitar costs £267.55 plus £46.82 V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2500200" cy="2147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510552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5105520"/>
            <a:ext cx="1371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267.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510552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105520"/>
            <a:ext cx="1143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46.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638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5715000"/>
            <a:ext cx="160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£314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80360" y="292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61657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hat Goes In The Box ?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676520"/>
            <a:ext cx="8153280" cy="825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total cost of these items by adding on the V.A.T to th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971800"/>
            <a:ext cx="914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97180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A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97180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4191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  45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419720"/>
            <a:ext cx="42670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  £45.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7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5105520"/>
            <a:ext cx="426708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  £589.7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103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791320"/>
            <a:ext cx="43434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  £3452.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604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3657600"/>
            <a:ext cx="1676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4343400"/>
            <a:ext cx="1676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5029200"/>
            <a:ext cx="1676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5715000"/>
            <a:ext cx="16761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53.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692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4056.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8:38:31Z</dcterms:created>
  <dc:creator>LT Scotland</dc:creator>
  <dc:description/>
  <dc:language>en-US</dc:language>
  <cp:lastModifiedBy>LTS</cp:lastModifiedBy>
  <dcterms:modified xsi:type="dcterms:W3CDTF">2004-11-28T13:44:41Z</dcterms:modified>
  <cp:revision>20</cp:revision>
  <dc:subject/>
  <dc:title>Access 3 Mathematics: Unit 1 Outcome 2 - Money In Your Life.</dc:title>
</cp:coreProperties>
</file>